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CA29-590B-4E1B-8206-F24DC610A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5AEF-55A0-4ED7-8AFD-FF7422E93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5176-B6F2-478E-AE03-651EFAB76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31FF-7F49-47CC-9ABB-5E2A14791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70AF-EAC5-4922-833C-9173F9870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A586-C326-4BE8-97C4-08E2D38BD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56CB-C44D-4592-99F7-6B2BA0175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686B-C66A-4C24-938E-AE6867B50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933A-F003-4E9A-B1DF-EFD12BDAB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C998-81D8-4F45-9569-8546E59EA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46B6-C5E2-4C9D-817A-FA1D3CA83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7727-244E-48C5-AF7D-C6E380C38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A69C803A-801F-4E50-8D55-4B97A597B3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.3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5773E346-CD27-409B-9979-D3DAB7623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26000" y="409104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Il y en a combien, un sur cent qui finit professionnel. Pourquoi ce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serait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lu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DAC3_p280"/>
          <p:cNvPicPr/>
          <p:nvPr/>
        </p:nvPicPr>
        <p:blipFill>
          <a:blip r:embed="rId1"/>
          <a:stretch/>
        </p:blipFill>
        <p:spPr>
          <a:xfrm>
            <a:off x="615960" y="1805040"/>
            <a:ext cx="3956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2878D3E2-3176-4990-8072-6EA2E7A8E0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 a clause af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 cas 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Note that English uses the indicative for these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3106800"/>
          <a:ext cx="8229600" cy="169380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ortez de l’arg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as 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ore des tickets à vendr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g some money in case there are still tickets for sal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mettrai des baske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as 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d au vernissag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ll wear sneakers in case we go to the art opening on foo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D45C0447-3393-4180-829D-FF781E9BED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express uncertainty about a 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938320"/>
          <a:ext cx="8229600" cy="201456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201456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on le journal, 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de 100 parcs d’attractions au Texa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rding to the newspaper, there are more than 100 amusement parks in Texa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film dit que nous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le temps de sauver la planèt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vie is saying that we don’t have any more time to save the plane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68015833-8BE8-46F0-8E6C-707D78C388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sometimes in the context of the past to indicate what was to happen in the future. This usag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ture in the 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3200400"/>
          <a:ext cx="8229600" cy="201132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épé a dit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ête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95e anniversaire dans un parc d’attraction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ps said he would celebrate his 95th birthday at an amusement par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ensais que mama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 affaires dans ma chambre, mais elle les a mises dehor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hought Mom would put my things in my room, but she put them outsid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455ADCA8-7412-4A8A-B3AD-733216F5B4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23960" y="1571760"/>
          <a:ext cx="7696080" cy="2847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4228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cate that an event was going to happen in the past, you can also use the ver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an infinitiv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LeFloch a dit qu’il allait bavarder avec un ami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. LeFloch said he was going to chat with a friend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D75FA566-2737-4662-9F92-6AD1B7D330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ntrary-to-fact statements about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thing el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re to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3106800"/>
          <a:ext cx="8381880" cy="1692360"/>
        </p:xfrm>
        <a:graphic>
          <a:graphicData uri="http://schemas.openxmlformats.org/drawingml/2006/table">
            <a:tbl>
              <a:tblPr/>
              <a:tblGrid>
                <a:gridCol w="4114800"/>
                <a:gridCol w="426708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i, 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baskets pour aller me promener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 were you, I would put on sneakers to take a wal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iver avant l’ouvertur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an-Yv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s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queue pour no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could arrive before the opening if Jean-Yves stood in line for 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3766F8B7-EB69-4EC2-924E-9926067865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soften a request, to indicate that a statement might be contrary to reality, or to show that an action was going to happen at some point in the past. It is often translated into Englis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AD2EE8C4-F24B-4C41-8332-7C00B4A1A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rmed with the same stems 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endings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ame as thos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685800" y="2819520"/>
            <a:ext cx="7696080" cy="196992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685800" y="3886200"/>
            <a:ext cx="7696080" cy="2525760"/>
          </a:xfrm>
          <a:prstGeom prst="roundRect">
            <a:avLst>
              <a:gd name="adj" fmla="val 14329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685800" y="3276720"/>
            <a:ext cx="7696080" cy="129528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3276720"/>
          <a:ext cx="7696080" cy="31366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457200">
                <a:tc>
                  <a:txBody>
                    <a:bodyPr lIns="32004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04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</a:tr>
              <a:tr h="2679480"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/j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72"/>
          <p:cNvSpPr/>
          <p:nvPr/>
        </p:nvSpPr>
        <p:spPr>
          <a:xfrm>
            <a:off x="2629080" y="2841480"/>
            <a:ext cx="42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of regular 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093B641B-034A-4BF1-8802-486E535D26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ith spelling changes in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 have the same changes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3429000" y="312408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533520" y="2768760"/>
          <a:ext cx="7696080" cy="2565360"/>
        </p:xfrm>
        <a:graphic>
          <a:graphicData uri="http://schemas.openxmlformats.org/drawingml/2006/table">
            <a:tbl>
              <a:tblPr/>
              <a:tblGrid>
                <a:gridCol w="3581280"/>
                <a:gridCol w="411480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t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t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5848EE15-0CC8-4519-B13A-A3E2381B6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that have an irregular stem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he same stem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817720"/>
          <a:ext cx="8229600" cy="1371600"/>
        </p:xfrm>
        <a:graphic>
          <a:graphicData uri="http://schemas.openxmlformats.org/drawingml/2006/table">
            <a:tbl>
              <a:tblPr/>
              <a:tblGrid>
                <a:gridCol w="4419360"/>
                <a:gridCol w="38102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inéma s’il y avai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films intéressants à voir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ould go to the cinema if there were interesting movies to se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est-ce que 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a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toi, dans les circonstances actuelles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uld you do under the present circumstances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7B2902C0-37DF-46A9-B578-F5134EDF9A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960" y="1571760"/>
          <a:ext cx="7696080" cy="391464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57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50892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the English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translated with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ne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o express ongoing or habitual actions in the past in French, use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é parlait souvent de son enfanc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ps would (used to) talk often about his childhood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é parlerait de son enfance s’il était là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ps would talk about his childhood if he were her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67797677-DF03-4DB7-85DA-278E8CC08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hypothetical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360520"/>
          <a:ext cx="8229600" cy="1371600"/>
        </p:xfrm>
        <a:graphic>
          <a:graphicData uri="http://schemas.openxmlformats.org/drawingml/2006/table">
            <a:tbl>
              <a:tblPr/>
              <a:tblGrid>
                <a:gridCol w="4496040"/>
                <a:gridCol w="373356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iez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r à cinq heur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could come at 5 o’cloc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jour, 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me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ter les Seychell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day, I’d like to visit the Seychell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3E0DF426-C18A-4952-9260-BBE0C24314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ypothetical aspec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useful in polite requests and propositions. The verbs most often used in phrases of this typ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v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l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3371760"/>
          <a:ext cx="8763120" cy="2171880"/>
        </p:xfrm>
        <a:graphic>
          <a:graphicData uri="http://schemas.openxmlformats.org/drawingml/2006/table">
            <a:tbl>
              <a:tblPr/>
              <a:tblGrid>
                <a:gridCol w="4952880"/>
                <a:gridCol w="3810240"/>
              </a:tblGrid>
              <a:tr h="21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me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poser des questions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ould like to ask you some questions.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-ce que 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ler à Bertrand?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I speak to Bertrand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d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 un toast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would like to make a toas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don, monsieur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iez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vous l’heure, s’il vous plaît?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don, sir, would you have the time, please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1FE2B2BD-8DD9-4951-A51E-9997B3AC3D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for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 infinitive tell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. Conditional for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 infinitive tell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3198960"/>
          <a:ext cx="8763120" cy="1371600"/>
        </p:xfrm>
        <a:graphic>
          <a:graphicData uri="http://schemas.openxmlformats.org/drawingml/2006/table">
            <a:tbl>
              <a:tblPr/>
              <a:tblGrid>
                <a:gridCol w="4343400"/>
                <a:gridCol w="441972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rais sort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souven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c no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should go out more often with 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t pass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atinée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parc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could spend the morning at the par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3-31T13:55:02Z</dcterms:modified>
  <cp:revision>210</cp:revision>
  <dc:subject>D'accord! 3 • Leçon 8: S’évader et s’amuser</dc:subject>
  <dc:title>8.3 The conditionnel</dc:title>
</cp:coreProperties>
</file>